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BDC3-E3CD-4EB4-A2F5-F4E394CD1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EB21-698E-4239-AD2D-DF07B324B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6A1E-2FEB-4A79-8711-D30C79301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DFA2-942D-45EA-9277-CEC37EC5A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87D90-8D4E-4247-AB2F-ECDEA407B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455CA-09E3-4DA6-9623-12C43C7EC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E7EB9-2ECC-4500-B279-21F0E07EF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30953-09D3-489A-8B83-7FD6DE63B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5472F-012C-4FC5-9436-8FF730D1B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220EA-3755-4FEE-A4BD-92B91BDD0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D9860-9FF7-4986-AE1D-57D77D6A8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4F5A-1340-4E4F-AAC2-A389C0339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B8FA6-98A1-4B1E-BCE2-2EF5DA85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AB307-1B7F-4B5F-AEDB-2A6E15D2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3609C-4930-4368-8CFC-CCFCE41B1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E4CDD-DB52-418A-A176-2BE48A021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90491-FF47-4BAF-A74D-F2C546774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18E9-6EBD-4A83-8489-07682146D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C82E-1779-4488-866D-27308A909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C659-408A-4FB6-B9B4-63CC9AB00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ADB9-B508-459D-A9A5-012BDB882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8533-76FE-4321-8FEC-4D6C2555D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DC6D-25BF-47D4-B704-89EC22F3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D006-A696-4D7C-8C59-6E62D3AD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8947D-084B-4B09-B1D5-9A09EC4535C5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7E8CF-E10F-4149-B5F7-90A91970C796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169236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第二章  寄生虫分类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71640" y="3068640"/>
            <a:ext cx="7345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sitic Classific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781440" y="5300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高兴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人体寄生虫被分类在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个真核生物界，即原生动物界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Protozo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、色混界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Chromist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和动物界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Animali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。原生动物界和色混界动物是单细胞动物，而动物界动物（也称后生动物）是多细胞动物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ecff"/>
                </a:solidFill>
                <a:latin typeface="Arial"/>
              </a:rPr>
              <a:t>医学寄生虫分类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57200" y="1252440"/>
            <a:ext cx="8229600" cy="5327640"/>
            <a:chOff x="457200" y="1252440"/>
            <a:chExt cx="8229600" cy="5327640"/>
          </a:xfrm>
        </p:grpSpPr>
        <p:sp>
          <p:nvSpPr>
            <p:cNvPr id="216" name=""/>
            <p:cNvSpPr/>
            <p:nvPr/>
          </p:nvSpPr>
          <p:spPr>
            <a:xfrm>
              <a:off x="5002200" y="6000840"/>
              <a:ext cx="36846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人芽囊原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lastocystis homini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238480" y="6000840"/>
              <a:ext cx="27637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双环门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igyr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57200" y="6000840"/>
              <a:ext cx="17812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色混界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hromist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02200" y="4781520"/>
              <a:ext cx="3684600" cy="10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疟原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lasmodium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弓形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oxoplasma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隐孢子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ryptosporidiu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小袋纤毛虫 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alantidiu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238480" y="4781520"/>
              <a:ext cx="2763720" cy="10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0000"/>
            </a:bodyPr>
            <a:p>
              <a:pPr marL="274320" indent="-274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孢子虫门（孢子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porozoa(sporozoan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74320" indent="-274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74320" indent="-274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纤毛虫门（纤毛虫）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74320" indent="-274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iliophora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（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iliates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）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7200" y="4781520"/>
              <a:ext cx="1781280" cy="10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002200" y="4201920"/>
              <a:ext cx="3684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耐格里阿米巴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aegler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238480" y="4201920"/>
              <a:ext cx="2763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透色动物门（鞭毛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ercolozoa(flagellate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57200" y="4201920"/>
              <a:ext cx="1781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002200" y="3622680"/>
              <a:ext cx="36846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毛滴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ichomon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38480" y="3622680"/>
              <a:ext cx="27637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副基体门（鞭毛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arabasala(flagellate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57200" y="3622680"/>
              <a:ext cx="17812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002200" y="1689120"/>
              <a:ext cx="3684600" cy="20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棘阿米巴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canthamoeb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巴氏阿米巴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alamuth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内阿米巴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tamoeb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利什曼原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Leishman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贾第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Giard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238480" y="1611360"/>
              <a:ext cx="2763720" cy="6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阿米巴门（阿米巴）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moebozoa(amebae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7200" y="1611360"/>
              <a:ext cx="1781280" cy="20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原生动物界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otozo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002200" y="1252440"/>
              <a:ext cx="368460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寄生虫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arasit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238480" y="1252440"/>
              <a:ext cx="276372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门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hylu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7200" y="1252440"/>
              <a:ext cx="17812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界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Kingdo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57200" y="1252440"/>
              <a:ext cx="8229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57200" y="6580080"/>
              <a:ext cx="82296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57200" y="1252440"/>
              <a:ext cx="0" cy="5176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686800" y="1252440"/>
              <a:ext cx="0" cy="5176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7200" y="1611360"/>
              <a:ext cx="8229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195640" y="2414520"/>
              <a:ext cx="28080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眼虫门（鞭毛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Euglenozoa(flagellate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后滴门（鞭毛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Metamonada(flagellate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828720" y="907920"/>
            <a:ext cx="7775640" cy="5345280"/>
            <a:chOff x="828720" y="907920"/>
            <a:chExt cx="7775640" cy="5345280"/>
          </a:xfrm>
        </p:grpSpPr>
        <p:sp>
          <p:nvSpPr>
            <p:cNvPr id="241" name=""/>
            <p:cNvSpPr/>
            <p:nvPr/>
          </p:nvSpPr>
          <p:spPr>
            <a:xfrm>
              <a:off x="4983120" y="4057560"/>
              <a:ext cx="3367080" cy="21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吸虫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ematodes</a:t>
              </a: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：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支睾吸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lonorchi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姜片吸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asciolopsi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并殖吸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aragonimu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裂体吸虫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chistosom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毛毕吸虫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ichobilharzi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东毕吸虫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rientobilharzi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455920" y="4057560"/>
              <a:ext cx="2527200" cy="21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扁形动物门</a:t>
              </a: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（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吸虫、绦虫</a:t>
              </a: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）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latyhelminth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（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ematodes, cestodes</a:t>
              </a: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）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28720" y="4057560"/>
              <a:ext cx="1627200" cy="21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983120" y="907920"/>
              <a:ext cx="3621240" cy="31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蛔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scari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鞭形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ichuri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住肠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terobiu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钩口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cylostom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板口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cator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毛形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ichinell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吴策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uchereri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布鲁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rugi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管圆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giostrongylu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455920" y="907920"/>
              <a:ext cx="2527200" cy="31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线形动物门（线虫）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mathelminth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nematodes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8720" y="907920"/>
              <a:ext cx="1627200" cy="31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动物界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imali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28720" y="907920"/>
              <a:ext cx="75214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28720" y="6253200"/>
              <a:ext cx="75214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28720" y="907920"/>
              <a:ext cx="0" cy="534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350200" y="907920"/>
              <a:ext cx="0" cy="534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"/>
          <p:cNvGrpSpPr/>
          <p:nvPr/>
        </p:nvGrpSpPr>
        <p:grpSpPr>
          <a:xfrm>
            <a:off x="457200" y="412920"/>
            <a:ext cx="8231040" cy="6400800"/>
            <a:chOff x="457200" y="412920"/>
            <a:chExt cx="8231040" cy="6400800"/>
          </a:xfrm>
        </p:grpSpPr>
        <p:sp>
          <p:nvSpPr>
            <p:cNvPr id="252" name=""/>
            <p:cNvSpPr/>
            <p:nvPr/>
          </p:nvSpPr>
          <p:spPr>
            <a:xfrm>
              <a:off x="5002200" y="2195640"/>
              <a:ext cx="3684600" cy="42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昆虫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nsect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：按蚊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ophel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库蚊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ulex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伊蚊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e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蝇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usca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白蛉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hlebotomu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客蚤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enopsylla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虱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ediculu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小蠊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lattell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螯肢动物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helicerat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：硬蜱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xo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钝缘蜱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rnithodoro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纤恙螨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Leptotrombidium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疥螨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arcopt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蠕形螨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emodex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尘螨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ermatophagoi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甲壳类动物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rustacean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：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溪蟹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otamon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蝲蛄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ambaroi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剑水蚤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yclop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238480" y="2208240"/>
              <a:ext cx="2763720" cy="39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节肢动物门（昆虫、螯肢动物、甲壳类动物）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rthropoda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（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nsect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helicerat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rustacean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）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7200" y="2878200"/>
              <a:ext cx="1781280" cy="39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003640" y="1692360"/>
              <a:ext cx="368460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巨吻棘头虫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acracanthorhynchu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38480" y="1679760"/>
              <a:ext cx="276372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棘颚门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canthognath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57200" y="1679760"/>
              <a:ext cx="178128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002200" y="412920"/>
              <a:ext cx="3684600" cy="12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绦虫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esto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：带绦虫</a:t>
              </a:r>
              <a:r>
                <a:rPr b="0" i="1" lang="pl-PL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aenia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棘球绦虫</a:t>
              </a:r>
              <a:r>
                <a:rPr b="0" i="1" lang="pl-PL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chinococcu</a:t>
              </a:r>
              <a:r>
                <a:rPr b="0" lang="pl-PL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膜壳绦虫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Hymenolepi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迭宫绦虫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pirometr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238480" y="412920"/>
              <a:ext cx="2763720" cy="12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57200" y="412920"/>
              <a:ext cx="1781280" cy="12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57200" y="412920"/>
              <a:ext cx="82296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57200" y="6588360"/>
              <a:ext cx="8229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57200" y="412920"/>
              <a:ext cx="0" cy="6400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686800" y="412920"/>
              <a:ext cx="0" cy="6400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0T09:35:20Z</dcterms:created>
  <dc:creator>gy</dc:creator>
  <dc:description/>
  <dc:language>en-US</dc:language>
  <cp:lastModifiedBy>hzg</cp:lastModifiedBy>
  <dcterms:modified xsi:type="dcterms:W3CDTF">2015-08-31T03:37:33Z</dcterms:modified>
  <cp:revision>121</cp:revision>
  <dc:subject/>
  <dc:title>医学寄生虫学总论</dc:title>
</cp:coreProperties>
</file>